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5" name="PlaceHolder 2"/>
          <p:cNvSpPr>
            <a:spLocks noGrp="1"/>
          </p:cNvSpPr>
          <p:nvPr>
            <p:ph type="dt" idx="1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51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8" name="PlaceHolder 5"/>
          <p:cNvSpPr>
            <a:spLocks noGrp="1"/>
          </p:cNvSpPr>
          <p:nvPr>
            <p:ph type="ftr" idx="1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19" name="PlaceHolder 6"/>
          <p:cNvSpPr>
            <a:spLocks noGrp="1"/>
          </p:cNvSpPr>
          <p:nvPr>
            <p:ph type="sldNum" idx="1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60257-0A2A-4B41-BA6F-09ACCBCD6E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was last updated on February 2016.</a:t>
            </a:r>
            <a:endParaRPr b="0" lang="en-US" sz="1200" spc="-1" strike="noStrike">
              <a:solidFill>
                <a:srgbClr val="000000"/>
              </a:solidFill>
              <a:latin typeface="Calibri"/>
            </a:endParaRPr>
          </a:p>
        </p:txBody>
      </p:sp>
      <p:sp>
        <p:nvSpPr>
          <p:cNvPr id="5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F2931-35DA-47A8-AA80-C9764DC8ECC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1160" y="696960"/>
            <a:ext cx="4648320" cy="3486240"/>
          </a:xfrm>
          <a:prstGeom prst="rect">
            <a:avLst/>
          </a:prstGeom>
          <a:ln w="0">
            <a:noFill/>
          </a:ln>
        </p:spPr>
      </p:sp>
      <p:sp>
        <p:nvSpPr>
          <p:cNvPr id="6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section of the Publishers’ Criteria echoes the first of the three shifts: reading content-rich nonfiction to build knowled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ift to get to an equal balance of literary and informational texts does not require counting of pages, titles, etc.  This balance should be reflected in the relative proportion of what students spend their time on.  Students should not just read a sporadic, random selection of informational texts, but rather, a coherent sequence of readings about topics in science, social studies, and the arts as a way to build content knowledge through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ram is a snapshot of page 31 from the Standards. It shows an example of a sequence of texts that builds knowledge about a topic-- in this case, the human body.  As students build their knowledge about a specific topic, they are able to read increasingly complex texts about that topic, and can continue independently. </a:t>
            </a:r>
            <a:endParaRPr b="0" lang="en-US" sz="1200" spc="-1" strike="noStrike">
              <a:solidFill>
                <a:srgbClr val="000000"/>
              </a:solidFill>
              <a:latin typeface="Calibri"/>
            </a:endParaRPr>
          </a:p>
        </p:txBody>
      </p:sp>
      <p:sp>
        <p:nvSpPr>
          <p:cNvPr id="6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DF9A5-84A2-4DFF-B958-B19BBD00718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iddle school and high school English classes, as described in the first shift, there will be additional literary nonfiction. This includes essays, speeches, opinion pieces, biographies, journalism, and historical, scientific, or other documents written for a broad audience.  You can find examples of such texts in Appendix B of the Standa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imagine what reading instruction focused on texts will look like, we must be sure that the texts to which students devote so much attention are worthy of their close attention.  Sequences of texts must include a range of genres, cultures, and er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Appendix B includes exemplar texts, the Common Core State Standards do not require a comprehensive, specific reading list. There are individual Standards, however, that specify texts or texts types. In high school, the standards require foundational documents from American history, selections from both American and world literature, a play by Shakespeare, and an American drama.  In early grades students are required to study classic myths and sto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read a group of related texts, an “anchor text” acts as a cornerstone – this is a text (or in some cases, set of texts) that students read closely and to which they continuously turn to support in-depth comprehension. Programs of study that pair anchor texts with additional sources give students the opportunity to read both widely and deeply. </a:t>
            </a:r>
            <a:endParaRPr b="0" lang="en-US" sz="1200" spc="-1" strike="noStrike">
              <a:solidFill>
                <a:srgbClr val="000000"/>
              </a:solidFill>
              <a:latin typeface="Calibri"/>
            </a:endParaRPr>
          </a:p>
        </p:txBody>
      </p:sp>
      <p:sp>
        <p:nvSpPr>
          <p:cNvPr id="6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C692A-17BA-4302-8943-DBB775EB4DE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1160" y="696960"/>
            <a:ext cx="4648320" cy="3486240"/>
          </a:xfrm>
          <a:prstGeom prst="rect">
            <a:avLst/>
          </a:prstGeom>
          <a:ln w="0">
            <a:noFill/>
          </a:ln>
        </p:spPr>
      </p:sp>
      <p:sp>
        <p:nvSpPr>
          <p:cNvPr id="6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p:txBody>
      </p:sp>
      <p:sp>
        <p:nvSpPr>
          <p:cNvPr id="6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1F3EA-0EE0-4568-B37F-9F3F5A78D85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1160" y="696960"/>
            <a:ext cx="4648320" cy="3486240"/>
          </a:xfrm>
          <a:prstGeom prst="rect">
            <a:avLst/>
          </a:prstGeom>
          <a:ln w="0">
            <a:noFill/>
          </a:ln>
        </p:spPr>
      </p:sp>
      <p:sp>
        <p:nvSpPr>
          <p:cNvPr id="6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section of the Publishers’ Criteria addresses the questions and tasks students engage when responding to text.  This is captured in broad terms in the second shift, in which students </a:t>
            </a:r>
            <a:r>
              <a:rPr b="0" i="1" lang="en-US" sz="1100" spc="-1" strike="noStrike">
                <a:solidFill>
                  <a:srgbClr val="000000"/>
                </a:solidFill>
                <a:latin typeface="Calibri"/>
              </a:rPr>
              <a:t>read, write, and speak grounded in </a:t>
            </a:r>
            <a:r>
              <a:rPr b="1" i="1" lang="en-US" sz="1100" spc="-1" strike="noStrike">
                <a:solidFill>
                  <a:srgbClr val="000000"/>
                </a:solidFill>
                <a:latin typeface="Calibri"/>
              </a:rPr>
              <a:t>evidence from text, </a:t>
            </a:r>
            <a:r>
              <a:rPr b="0" i="1" lang="en-US" sz="1100" spc="-1" strike="noStrike">
                <a:solidFill>
                  <a:srgbClr val="000000"/>
                </a:solidFill>
                <a:latin typeface="Calibri"/>
              </a:rPr>
              <a:t>both literary and informational</a:t>
            </a:r>
            <a:r>
              <a:rPr b="0" lang="en-US" sz="1100" spc="-1" strike="noStrike">
                <a:solidFill>
                  <a:srgbClr val="000000"/>
                </a:solidFill>
                <a:latin typeface="Calibri"/>
              </a:rPr>
              <a:t>. Imagine if we carefully select high quality texts of appropriate complexity, as we just discussed, and then ask a student meaningless questions, or perhaps more egregious, questions and tasks that do not require students to actually read the text.  Evidence-based responses to quality questions can be viewed as a reward or a reinforcement of the work that went into understanding the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ext-dependent questions require students to not only follow the details of what is explicitly stated in the text, but also to make valid claims and use the text in support of those claims.  The vast majority of individual reading standards require text-dependent analysi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ve participants look in their copies of the Common Core State Standards for examples of standards that are “text-dependen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ddition to requiring analysis of the text, quality questions and tasks also often requires text specificity – so that the conversation goes beyond a generic question that could be asked about any text.  Quality questions support engagement and understanding of a specific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contain sequences of quality questions, in which deeper analysis and inferences accumulate through increasingly demanding questions.  Questions build on each other and support close reading as well as stamina.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quality questions actually reward students for careful reading– the reward is deeper understanding, insight, as well as engagement in the text.  In the past, “engaging” questions have typically pulled students away from the text, requiring them to elaborate on personal experiences or reflections.  The best questions will instead motivate students to go deeper into texts: they are questions worth answering. </a:t>
            </a:r>
            <a:endParaRPr b="0" lang="en-US" sz="1100" spc="-1" strike="noStrike">
              <a:solidFill>
                <a:srgbClr val="000000"/>
              </a:solidFill>
              <a:latin typeface="Calibri"/>
            </a:endParaRPr>
          </a:p>
        </p:txBody>
      </p:sp>
      <p:sp>
        <p:nvSpPr>
          <p:cNvPr id="6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08A93-0BE4-4634-97DA-B8516578FEF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1160" y="696960"/>
            <a:ext cx="4648320" cy="3486240"/>
          </a:xfrm>
          <a:prstGeom prst="rect">
            <a:avLst/>
          </a:prstGeom>
          <a:ln w="0">
            <a:noFill/>
          </a:ln>
        </p:spPr>
      </p:sp>
      <p:sp>
        <p:nvSpPr>
          <p:cNvPr id="634" name="PlaceHolder 2"/>
          <p:cNvSpPr>
            <a:spLocks noGrp="1"/>
          </p:cNvSpPr>
          <p:nvPr>
            <p:ph type="body"/>
          </p:nvPr>
        </p:nvSpPr>
        <p:spPr>
          <a:xfrm>
            <a:off x="701280" y="4416120"/>
            <a:ext cx="5607000" cy="2863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dependent questions require students to pay attention to the text at hand and to draw evidence from that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look like in the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insist that classroom experiences stay deeply connected to the text on the page and that students develop habits for making evidentiary argument both in conversation, as well as in writing, to assess comprehension of a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rich and rigorous conversations and develop writing dependent on a common tex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te to Facilitator:  if extended time is available, at this point elementary teachers (grades 3-5) may want to explore the Basal Alignment Project , as described in the Facilitator’s Guide.]</a:t>
            </a:r>
            <a:endParaRPr b="0" lang="en-US" sz="1200" spc="-1" strike="noStrike">
              <a:solidFill>
                <a:srgbClr val="000000"/>
              </a:solidFill>
              <a:latin typeface="Calibri"/>
            </a:endParaRPr>
          </a:p>
        </p:txBody>
      </p:sp>
      <p:sp>
        <p:nvSpPr>
          <p:cNvPr id="635" name="Shape 147"/>
          <p:cNvSpPr/>
          <p:nvPr/>
        </p:nvSpPr>
        <p:spPr>
          <a:xfrm>
            <a:off x="3970440" y="9019080"/>
            <a:ext cx="3038400" cy="275760"/>
          </a:xfrm>
          <a:prstGeom prst="rect">
            <a:avLst/>
          </a:prstGeom>
          <a:noFill/>
          <a:ln w="0">
            <a:noFill/>
          </a:ln>
        </p:spPr>
        <p:style>
          <a:lnRef idx="0"/>
          <a:fillRef idx="0"/>
          <a:effectRef idx="0"/>
          <a:fontRef idx="minor"/>
        </p:style>
        <p:txBody>
          <a:bodyPr lIns="93240" rIns="93240" tIns="46440" bIns="464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1160" y="696960"/>
            <a:ext cx="4648320" cy="3486240"/>
          </a:xfrm>
          <a:prstGeom prst="rect">
            <a:avLst/>
          </a:prstGeom>
          <a:ln w="0">
            <a:noFill/>
          </a:ln>
        </p:spPr>
      </p:sp>
      <p:sp>
        <p:nvSpPr>
          <p:cNvPr id="6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ularly as we transition to the Common Core, many students will need supports and scaffolds in order to access complex text. It is important that these scaffolding strategies in fact support students’ ability to read these texts independently rather than avoid them.  Scaffolding should not replace the text by explaining the contents of the text to students before they have the opportunity to read it.  Simpler forms of text are also not an appropriate scaffold.  In support of the third shift and the requirements of the Standards, materials should ask students to re-read challenging portions of the text, and scaffolds should be text-based.  Often, it will be high quality questions, rather than explanations, that will support the development of students’ independence with complex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ention to reading strategies can either support or hinder a student’s ability to gain independence with increasingly complex text.  Reading strategies in materials that are aligned to the Standards should not be taught as ends unto themselves, but should work in service of comprehension of the text.  They should be addressed within the context of understanding a specific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ssments embedded in materials aligned to the Standards should be frequent and easy to implement. Assessments should allow students to demonstrate their independent capacity to read and write in every domain at the appropriate level of complexity and sophistication.  </a:t>
            </a:r>
            <a:endParaRPr b="0" lang="en-US" sz="1200" spc="-1" strike="noStrike">
              <a:solidFill>
                <a:srgbClr val="000000"/>
              </a:solidFill>
              <a:latin typeface="Calibri"/>
            </a:endParaRPr>
          </a:p>
        </p:txBody>
      </p:sp>
      <p:sp>
        <p:nvSpPr>
          <p:cNvPr id="6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1284D-3F90-4805-A6CC-49FDCFA6B50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1160" y="696960"/>
            <a:ext cx="4648320" cy="3486240"/>
          </a:xfrm>
          <a:prstGeom prst="rect">
            <a:avLst/>
          </a:prstGeom>
          <a:ln w="0">
            <a:noFill/>
          </a:ln>
        </p:spPr>
      </p:sp>
      <p:sp>
        <p:nvSpPr>
          <p:cNvPr id="6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portant feature of complex text is academic vocabulary.  These words are sometimes referred to as “Tier 2” words.  They are words that appear across the content areas, in all types of texts.  They are not domain specific, content specific, or technical words.  Examples of academic vocabulary words include </a:t>
            </a:r>
            <a:r>
              <a:rPr b="0" i="1" lang="en-US" sz="1200" spc="-1" strike="noStrike">
                <a:solidFill>
                  <a:srgbClr val="000000"/>
                </a:solidFill>
                <a:latin typeface="Calibri"/>
              </a:rPr>
              <a:t>crucial, concise,</a:t>
            </a:r>
            <a:r>
              <a:rPr b="0" lang="en-US" sz="1200" spc="-1" strike="noStrike">
                <a:solidFill>
                  <a:srgbClr val="000000"/>
                </a:solidFill>
                <a:latin typeface="Calibri"/>
              </a:rPr>
              <a:t> and </a:t>
            </a:r>
            <a:r>
              <a:rPr b="0" i="1" lang="en-US" sz="1200" spc="-1" strike="noStrike">
                <a:solidFill>
                  <a:srgbClr val="000000"/>
                </a:solidFill>
                <a:latin typeface="Calibri"/>
              </a:rPr>
              <a:t>portray</a:t>
            </a:r>
            <a:r>
              <a:rPr b="0" lang="en-US" sz="1200" spc="-1" strike="noStrike">
                <a:solidFill>
                  <a:srgbClr val="000000"/>
                </a:solidFill>
                <a:latin typeface="Calibri"/>
              </a:rPr>
              <a:t>.  Knowledge of these words help students access a wide range of complex tex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simply providing definitions for words, aligned materials should support a student’s ability to gather as much meaning about a word as they can from context, from the way it’s used in a particular text.  Vocabulary study should not be independent of text and con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 scaffolds for English Language Learners should include support with high frequency words in addition to the academic vocabulary.  </a:t>
            </a:r>
            <a:endParaRPr b="0" lang="en-US" sz="1200" spc="-1" strike="noStrike">
              <a:solidFill>
                <a:srgbClr val="000000"/>
              </a:solidFill>
              <a:latin typeface="Calibri"/>
            </a:endParaRPr>
          </a:p>
        </p:txBody>
      </p:sp>
      <p:sp>
        <p:nvSpPr>
          <p:cNvPr id="6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33C1A-C1F7-483F-A173-2B992045B26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1160" y="696960"/>
            <a:ext cx="4648320" cy="3486240"/>
          </a:xfrm>
          <a:prstGeom prst="rect">
            <a:avLst/>
          </a:prstGeom>
          <a:ln w="0">
            <a:noFill/>
          </a:ln>
        </p:spPr>
      </p:sp>
      <p:sp>
        <p:nvSpPr>
          <p:cNvPr id="6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2715C-7D71-4B8D-B30D-190A7FEF8B1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1160" y="696960"/>
            <a:ext cx="4648320" cy="3486240"/>
          </a:xfrm>
          <a:prstGeom prst="rect">
            <a:avLst/>
          </a:prstGeom>
          <a:ln w="0">
            <a:noFill/>
          </a:ln>
        </p:spPr>
      </p:sp>
      <p:sp>
        <p:nvSpPr>
          <p:cNvPr id="6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require a balance of writing that parallels the types of writing assessed on the National Assessment of Educational Progress (NAE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udents develop their writing skills, the prominence of narrative writing in the early grades shifts to an increase in writing to inform and writing to marshal an argument.  Through middle and high school, significantly less time should be spent on decontextualized prompts.  This recalls the second shift - writing based on evidence, or, in other words, writing to sources.  Materials aligned with the Standards should give students extensive opportunities to write in response to sources throughout grade-level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re can be overlap between the forms of writing.  The purpose of these percentages is to describe relative proportions of writing and empha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BA3B6-EF90-4DBB-B488-981D04D4F22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81160" y="696960"/>
            <a:ext cx="4648320" cy="3486240"/>
          </a:xfrm>
          <a:prstGeom prst="rect">
            <a:avLst/>
          </a:prstGeom>
          <a:ln w="0">
            <a:noFill/>
          </a:ln>
        </p:spPr>
      </p:sp>
      <p:sp>
        <p:nvSpPr>
          <p:cNvPr id="6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themselves don’t specify length and structure of student writing, but rather focus on characteristics of good writing, including: the use of evidence, the development of ideas, clarity, coherence, and sufficient command of standard Engli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also emphasize shorter research opportunities rather than the often observed “major research project of the year,” which often results in a single, long experience with little opportunity for growth and development in the skill of research.  </a:t>
            </a:r>
            <a:endParaRPr b="0" lang="en-US" sz="1200" spc="-1" strike="noStrike">
              <a:solidFill>
                <a:srgbClr val="000000"/>
              </a:solidFill>
              <a:latin typeface="Calibri"/>
            </a:endParaRPr>
          </a:p>
        </p:txBody>
      </p:sp>
      <p:sp>
        <p:nvSpPr>
          <p:cNvPr id="6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14173-D942-4779-874A-620799187C5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1160" y="696960"/>
            <a:ext cx="4648320" cy="3486240"/>
          </a:xfrm>
          <a:prstGeom prst="rect">
            <a:avLst/>
          </a:prstGeom>
          <a:ln w="0">
            <a:noFill/>
          </a:ln>
        </p:spPr>
      </p:sp>
      <p:sp>
        <p:nvSpPr>
          <p:cNvPr id="5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ive participants time to discuss these questions in groups. After giving them time to share out their answers, direct them to the following paragraph from page 1 of the Publishers’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criteria articulated below concentrate on the most significant elements of the Common Core State Standards and lay out their implications for aligning materials with the standards. These guidelines are not meant to dictate classroom practice but rather to help ensure that teachers receive effective tools. They are intended to guide teachers, curriculum developers, and publishers to be purposeful and strategic in both what to include and what to exclude in instructional materials. By underscoring what matters most in the standards, the criteria illustrate what shifts must take place in the next generation of curricula, including paring away elements that distract or are at odds with the Common Core State Standards.”</a:t>
            </a:r>
            <a:endParaRPr b="0" lang="en-US" sz="1200" spc="-1" strike="noStrike">
              <a:solidFill>
                <a:srgbClr val="000000"/>
              </a:solidFill>
              <a:latin typeface="Calibri"/>
            </a:endParaRPr>
          </a:p>
        </p:txBody>
      </p:sp>
      <p:sp>
        <p:nvSpPr>
          <p:cNvPr id="5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63F87-2BA4-4D4A-8F12-922ACF040C2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81160" y="696960"/>
            <a:ext cx="4648320" cy="3486240"/>
          </a:xfrm>
          <a:prstGeom prst="rect">
            <a:avLst/>
          </a:prstGeom>
          <a:ln w="0">
            <a:noFill/>
          </a:ln>
        </p:spPr>
      </p:sp>
      <p:sp>
        <p:nvSpPr>
          <p:cNvPr id="6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writing, speaking and listening are meant to be interwoven.  These standards and the materials that align to them should intentionally bring these strands together.  Many programs in our schools today separate writing from reading.  It will be challenging to meet the requirements of the Standards with such an appro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shifts should not be disconnected or sequential. [</a:t>
            </a:r>
            <a:r>
              <a:rPr b="0" i="1" lang="en-US" sz="1200" spc="-1" strike="noStrike">
                <a:solidFill>
                  <a:srgbClr val="000000"/>
                </a:solidFill>
                <a:latin typeface="Calibri"/>
              </a:rPr>
              <a:t>Remind participants of what the three shifts are, or perhaps ask for volunteers to recall.</a:t>
            </a:r>
            <a:r>
              <a:rPr b="0" lang="en-US" sz="1200" spc="-1" strike="noStrike">
                <a:solidFill>
                  <a:srgbClr val="000000"/>
                </a:solidFill>
                <a:latin typeface="Calibri"/>
              </a:rPr>
              <a:t>] All three are meant to be in play at o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blishers’ Criteria are not designed to be a menu of features from which to choose.  Programs that are aligned to the CCSS must include all of these fea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inal word of caution: the ELA/Literacy Standards should not be misinterpreted as a “check off list” of expectations that students complete lesson by lesson over the course of a school year.  They are intended to be interwoven, revisited, and further developed throughout the year.  Therefore, superficial alignment studies or crosswalks are woefully insufficient in supporting quality implementation of CCSS.  </a:t>
            </a:r>
            <a:endParaRPr b="0" lang="en-US" sz="1200" spc="-1" strike="noStrike">
              <a:solidFill>
                <a:srgbClr val="000000"/>
              </a:solidFill>
              <a:latin typeface="Calibri"/>
            </a:endParaRPr>
          </a:p>
        </p:txBody>
      </p:sp>
      <p:sp>
        <p:nvSpPr>
          <p:cNvPr id="6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513C5-7B11-4AF3-9960-25F426FB929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1160" y="696960"/>
            <a:ext cx="4648320" cy="3486240"/>
          </a:xfrm>
          <a:prstGeom prst="rect">
            <a:avLst/>
          </a:prstGeom>
          <a:ln w="0">
            <a:noFill/>
          </a:ln>
        </p:spPr>
      </p:sp>
      <p:sp>
        <p:nvSpPr>
          <p:cNvPr id="6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represents the highlights of the Publishers’ Criteria – which again emanate directly from the Standards.  It is easy enough to nod one’s head and agree with the shifts, and even agree with the Standards themselves.  This chart highlights the actualization of the shifts and Standards in various features of a literacy pr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go through this “Top Ten” list, reflect on or discuss the extent to which your current resources and pedagogy alig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D4058-EB85-4930-82CE-D5C3269747C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1160" y="696960"/>
            <a:ext cx="4648320" cy="3486240"/>
          </a:xfrm>
          <a:prstGeom prst="rect">
            <a:avLst/>
          </a:prstGeom>
          <a:ln w="0">
            <a:noFill/>
          </a:ln>
        </p:spPr>
      </p:sp>
      <p:sp>
        <p:nvSpPr>
          <p:cNvPr id="6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FD41B-053F-4DC5-896A-CB9938F6A74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1160" y="696960"/>
            <a:ext cx="4648320" cy="3486240"/>
          </a:xfrm>
          <a:prstGeom prst="rect">
            <a:avLst/>
          </a:prstGeom>
          <a:ln w="0">
            <a:noFill/>
          </a:ln>
        </p:spPr>
      </p:sp>
      <p:sp>
        <p:nvSpPr>
          <p:cNvPr id="6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ad slide]</a:t>
            </a:r>
            <a:endParaRPr b="0" lang="en-US" sz="1200" spc="-1" strike="noStrike">
              <a:solidFill>
                <a:srgbClr val="000000"/>
              </a:solidFill>
              <a:latin typeface="Calibri"/>
            </a:endParaRPr>
          </a:p>
        </p:txBody>
      </p:sp>
      <p:sp>
        <p:nvSpPr>
          <p:cNvPr id="6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96AE4-0CDD-4E3C-8279-CB77AD3C489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1160" y="696960"/>
            <a:ext cx="4648320" cy="3486240"/>
          </a:xfrm>
          <a:prstGeom prst="rect">
            <a:avLst/>
          </a:prstGeom>
          <a:ln w="0">
            <a:noFill/>
          </a:ln>
        </p:spPr>
      </p:sp>
      <p:sp>
        <p:nvSpPr>
          <p:cNvPr id="6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This is a quick review of the ELA/Literacy shifts. If this information is new please start with the PD Module:  Introduction to ELA/Literacy Shift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Common Core State Standards for English Language Arts and Literacy point to three major changes that have implications on curriculum, instruction, and therefore classroom materials.  These shifts grow out of the standards, but are not the standards and are not in and of themselves a curriculu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 is important to keep an eye on how synergistic these are:  evidence of these shifts permeates much of the work and support for implementation of the Standards, including professional development, local assessments, the future consortia assessments, and criteria for judging quality materials.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 review: The first shift concerns reading more nonfiction text in order to build knowledge.  This does not mean isolated experiences in reading nonfiction, but rather reading a selection of related texts about a topic so that the students can build content knowledge while they simultaneously develop their reading and comprehension skills.  In the elementary school the balance of nonfiction to fiction is about 50/50.  As the role of literacy expands in the content areas in middle school and high school, the balance of nonfiction to fiction expands to 70/30.  Because these Standards are based on the notion of building toward college and career readiness, they call for strong skills not just in reading, but specifically in reading nonfiction text as a way to build knowledge of the world around the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cond of the three shifts focuses on response to text.  We will discuss this at length later in the presentation.  This shift requires students to build their skills in using evidence from a text, whether literary or informational, when reading, writing and speaking.  Think about how often we currently ask to students to answer questions, write essays, or discuss concepts from a text that in fact do not require that they have read that tex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nally, the third of the three shifts represents reading anchor standard 10.  That is, it is not enough to just focus on the skills of literacy, but rather to focus on a student’s skills in response to a particular level of text complexity.  Each grade represents-- and the standards call for-- a step in the development of text complexity so that when students graduate high school they will be able to read and comprehend the typical text required for post-secondary education, including college, training programs and technical schools.  This is a big piece of the Common Core: that </a:t>
            </a:r>
            <a:r>
              <a:rPr b="1" lang="en-US" sz="900" spc="-1" strike="noStrike">
                <a:solidFill>
                  <a:srgbClr val="000000"/>
                </a:solidFill>
                <a:latin typeface="Calibri"/>
              </a:rPr>
              <a:t>all</a:t>
            </a:r>
            <a:r>
              <a:rPr b="0" lang="en-US" sz="900" spc="-1" strike="noStrike">
                <a:solidFill>
                  <a:srgbClr val="000000"/>
                </a:solidFill>
                <a:latin typeface="Calibri"/>
              </a:rPr>
              <a:t> students should be on the pathway to college and career readiness.  Students need to practice in order to strengthen their ability to read and understand complex text.  This is separate from the goal of building fluency, which is also important.  This shift specifically speaks to how teachers best use instructional time to increase student independence with increasingly complex text.  Much of what makes text complex is the academic language – the vocabulary and syntax that is typically (by definition) not present in low-level reader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we’ll discuss, each of these shifts play out in the criteria for classroom resources.  </a:t>
            </a:r>
            <a:endParaRPr b="0" lang="en-US" sz="900" spc="-1" strike="noStrike">
              <a:solidFill>
                <a:srgbClr val="000000"/>
              </a:solidFill>
              <a:latin typeface="Calibri"/>
            </a:endParaRPr>
          </a:p>
        </p:txBody>
      </p:sp>
      <p:sp>
        <p:nvSpPr>
          <p:cNvPr id="6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767A6-B68C-4EF7-B60E-D55ECB7DED10}"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1160" y="696960"/>
            <a:ext cx="4648320" cy="3486240"/>
          </a:xfrm>
          <a:prstGeom prst="rect">
            <a:avLst/>
          </a:prstGeom>
          <a:ln w="0">
            <a:noFill/>
          </a:ln>
        </p:spPr>
      </p:sp>
      <p:sp>
        <p:nvSpPr>
          <p:cNvPr id="6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Participants should each have a hard copy of the Publishers’ Criteria, which is linked to in the facilitators guide and found on www.achievethecore.or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Publishers’ Criteria was developed with the aim of raising the quality of instructional resources available to support the implementation of the Common Core State Standards.  Criteria need to go beyond a salesman’s promise of alignment or a logo indicating alignment– they need to create a shared understanding of what it truly means to be aligned to the expectations of the CCS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document is not a replacement for the Standards.  Instead, it focuses on the most significant elements of the Standards, highlighting the implications they have on instructional material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ke the Standards, the Publishers’ Criteria do not dictate classroom practice; pedagogy remains a separate aspect of quality implementation.  With a strong set of broadly adopted standards, the field of instructional resources will be ripe with opportunities for innovation. These criteria are meant to make clear the key content criteria of any such innovation.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wo sets of Publishers’ Criteria.  This presentation will focus on the document for grades 3-12. The separate K-2 document includes added criteria about building foundational skills in reading.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though it was the original intent of this document to guide the work of the developers of instructional resources, it is equally as important that professionals who make decisions about what to purchase are also “armed” with this set of criteria.  As these criteria were developed and shared with producers of materials, they said on more than one occasion that they “just make what the market demands.” These criteria aim to support the purchasers by clarifying what needs to be demanded.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cause these criteria emanate from the Standards, you will find that they echo the “shifts” as well. </a:t>
            </a:r>
            <a:endParaRPr b="0" lang="en-US" sz="1000" spc="-1" strike="noStrike">
              <a:solidFill>
                <a:srgbClr val="000000"/>
              </a:solidFill>
              <a:latin typeface="Calibri"/>
            </a:endParaRPr>
          </a:p>
        </p:txBody>
      </p:sp>
      <p:sp>
        <p:nvSpPr>
          <p:cNvPr id="6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A0590-C30B-4662-ACCC-4D8C3CBEB88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81160" y="696960"/>
            <a:ext cx="4648320" cy="3486240"/>
          </a:xfrm>
          <a:prstGeom prst="rect">
            <a:avLst/>
          </a:prstGeom>
          <a:ln w="0">
            <a:noFill/>
          </a:ln>
        </p:spPr>
      </p:sp>
      <p:sp>
        <p:nvSpPr>
          <p:cNvPr id="6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cument contains four sections, each discussing “key criteria” for materials aligned to the Common Core State Standards. </a:t>
            </a:r>
            <a:endParaRPr b="0" lang="en-US" sz="1200" spc="-1" strike="noStrike">
              <a:solidFill>
                <a:srgbClr val="000000"/>
              </a:solidFill>
              <a:latin typeface="Calibri"/>
            </a:endParaRPr>
          </a:p>
        </p:txBody>
      </p:sp>
      <p:sp>
        <p:nvSpPr>
          <p:cNvPr id="6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C6EE2-B145-4032-BF1B-D3532BBCC48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1160" y="696960"/>
            <a:ext cx="4648320" cy="3486240"/>
          </a:xfrm>
          <a:prstGeom prst="rect">
            <a:avLst/>
          </a:prstGeom>
          <a:ln w="0">
            <a:noFill/>
          </a:ln>
        </p:spPr>
      </p:sp>
      <p:sp>
        <p:nvSpPr>
          <p:cNvPr id="6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rst section of the Publishers’ Criteria concerns the selection of text.  These criteria echo the third shift and mostly concern text complexity. </a:t>
            </a:r>
            <a:r>
              <a:rPr b="0" i="1" lang="en-US" sz="1100" spc="-1" strike="noStrike">
                <a:solidFill>
                  <a:srgbClr val="000000"/>
                </a:solidFill>
                <a:latin typeface="Calibri"/>
              </a:rPr>
              <a:t>[To learn more about text complexity, see Appendix A of the CCSS; please note that a supplement to Appendix A, with additional research, was released during the summer of 2012.  This supplement does have impact on some of the original complexity guideline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selecting materials, it is important to choose texts that fit into the appropriate band of complexity.  In addition, such levels of complexity should not only be made </a:t>
            </a:r>
            <a:r>
              <a:rPr b="0" i="1" lang="en-US" sz="1100" spc="-1" strike="noStrike">
                <a:solidFill>
                  <a:srgbClr val="000000"/>
                </a:solidFill>
                <a:latin typeface="Calibri"/>
              </a:rPr>
              <a:t>available</a:t>
            </a:r>
            <a:r>
              <a:rPr b="0" lang="en-US" sz="1100" spc="-1" strike="noStrike">
                <a:solidFill>
                  <a:srgbClr val="000000"/>
                </a:solidFill>
                <a:latin typeface="Calibri"/>
              </a:rPr>
              <a:t> to all students, but also made </a:t>
            </a:r>
            <a:r>
              <a:rPr b="0" i="1" lang="en-US" sz="1100" spc="-1" strike="noStrike">
                <a:solidFill>
                  <a:srgbClr val="000000"/>
                </a:solidFill>
                <a:latin typeface="Calibri"/>
              </a:rPr>
              <a:t>accessible</a:t>
            </a:r>
            <a:r>
              <a:rPr b="0" lang="en-US" sz="1100" spc="-1" strike="noStrike">
                <a:solidFill>
                  <a:srgbClr val="000000"/>
                </a:solidFill>
                <a:latin typeface="Calibri"/>
              </a:rPr>
              <a:t> to all students. Struggling students should not be kept out of rich, complex text.  Rather, materials should include scaffolding opportunities that support the student’s ability to read independently.  It is common – and </a:t>
            </a:r>
            <a:r>
              <a:rPr b="0" i="1" lang="en-US" sz="1100" spc="-1" strike="noStrike">
                <a:solidFill>
                  <a:srgbClr val="000000"/>
                </a:solidFill>
                <a:latin typeface="Calibri"/>
              </a:rPr>
              <a:t>not aligned to the Standards</a:t>
            </a:r>
            <a:r>
              <a:rPr b="0" lang="en-US" sz="1100" spc="-1" strike="noStrike">
                <a:solidFill>
                  <a:srgbClr val="000000"/>
                </a:solidFill>
                <a:latin typeface="Calibri"/>
              </a:rPr>
              <a:t> – that text modified for struggling readers contains little vocabulary or complex sentence structure.  While this may allow students to participate in discussions, it does not support the development of skills that allow them to read increasingly complex text.  The way to get better at reading complex text is to read it with the appropriate scaffolds that build independent reader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include shorter, challenging passages, which may be excerpts or entire short texts.  This supports close, careful reading and rereading to fully understand text. In addition, throughout the school year, students should have the opportunity to read longer texts, including novels and plays. This range is important in building a student’s stamina. With longer texts, students may focus more closely on particular passag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ly, materials also need to attend to independent student reading. Independent reading should support students in learning about topics that interest them, and should span different levels of text complexity – the range should include texts at a student’s own reading level as well as challenging and motivating complex texts, both literacy and informational. These materials should be accessible both within classrooms as well as school libraries.  </a:t>
            </a:r>
            <a:endParaRPr b="0" lang="en-US" sz="1100" spc="-1" strike="noStrike">
              <a:solidFill>
                <a:srgbClr val="000000"/>
              </a:solidFill>
              <a:latin typeface="Calibri"/>
            </a:endParaRPr>
          </a:p>
        </p:txBody>
      </p:sp>
      <p:sp>
        <p:nvSpPr>
          <p:cNvPr id="6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70767-AB36-4C62-A10A-8A3EF34FA4A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1160" y="696960"/>
            <a:ext cx="4648320" cy="3486240"/>
          </a:xfrm>
          <a:prstGeom prst="rect">
            <a:avLst/>
          </a:prstGeom>
          <a:ln w="0">
            <a:noFill/>
          </a:ln>
        </p:spPr>
      </p:sp>
      <p:sp>
        <p:nvSpPr>
          <p:cNvPr id="6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ist captures some of the features of text that determine its complexity level.  Complex text contains any combination of these.  Of the features in this list, there are two that really trip students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i="1" lang="en-US" sz="1200" spc="-1" strike="noStrike">
                <a:solidFill>
                  <a:srgbClr val="000000"/>
                </a:solidFill>
                <a:latin typeface="Calibri"/>
              </a:rPr>
              <a:t>Give participants a moment to review the list and predict which two features of complex text need the most atten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tudents are not able to handle </a:t>
            </a:r>
            <a:r>
              <a:rPr b="1" lang="en-US" sz="1200" spc="-1" strike="noStrike">
                <a:solidFill>
                  <a:srgbClr val="000000"/>
                </a:solidFill>
                <a:latin typeface="Calibri"/>
              </a:rPr>
              <a:t>complex sentences</a:t>
            </a:r>
            <a:r>
              <a:rPr b="0" lang="en-US" sz="1200" spc="-1" strike="noStrike">
                <a:solidFill>
                  <a:srgbClr val="000000"/>
                </a:solidFill>
                <a:latin typeface="Calibri"/>
              </a:rPr>
              <a:t> and </a:t>
            </a:r>
            <a:r>
              <a:rPr b="1" lang="en-US" sz="1200" spc="-1" strike="noStrike">
                <a:solidFill>
                  <a:srgbClr val="000000"/>
                </a:solidFill>
                <a:latin typeface="Calibri"/>
              </a:rPr>
              <a:t>uncommon vocabulary</a:t>
            </a:r>
            <a:r>
              <a:rPr b="0" lang="en-US" sz="1200" spc="-1" strike="noStrike">
                <a:solidFill>
                  <a:srgbClr val="000000"/>
                </a:solidFill>
                <a:latin typeface="Calibri"/>
              </a:rPr>
              <a:t>, they will have trouble progressing with increasingly complex text. The other features do make text challenging, but students are typically able to make their way through them. Students will need support to gain increasing independence with these two features. </a:t>
            </a:r>
            <a:endParaRPr b="0" lang="en-US" sz="1200" spc="-1" strike="noStrike">
              <a:solidFill>
                <a:srgbClr val="000000"/>
              </a:solidFill>
              <a:latin typeface="Calibri"/>
            </a:endParaRPr>
          </a:p>
        </p:txBody>
      </p:sp>
      <p:sp>
        <p:nvSpPr>
          <p:cNvPr id="6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61D4D-5194-4C85-A099-38F944694C80}"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696960"/>
            <a:ext cx="4648320" cy="3486240"/>
          </a:xfrm>
          <a:prstGeom prst="rect">
            <a:avLst/>
          </a:prstGeom>
          <a:ln w="0">
            <a:noFill/>
          </a:ln>
        </p:spPr>
      </p:sp>
      <p:sp>
        <p:nvSpPr>
          <p:cNvPr id="6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ese questions over to a more extended conversation through their professional learning community.]  </a:t>
            </a:r>
            <a:endParaRPr b="0" lang="en-US" sz="1200" spc="-1" strike="noStrike">
              <a:solidFill>
                <a:srgbClr val="000000"/>
              </a:solidFill>
              <a:latin typeface="Calibri"/>
            </a:endParaRPr>
          </a:p>
        </p:txBody>
      </p:sp>
      <p:sp>
        <p:nvSpPr>
          <p:cNvPr id="6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FDBB2-521A-4096-ADCC-B620257A0B5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B58A95-F357-4BCD-9039-2DCB374B33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DFC54896-2967-4F14-9BE2-DB41E18D11B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30DA7DAE-C852-4A39-90E4-2625A444D53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0F0685F5-25E2-4109-9BC6-D1861757951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28527D02-BCB2-4F6D-9814-CFE1296707B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C4C37FC-7497-448B-8875-72B68CF81BD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FEA017B-3C34-4A85-9FBB-5A68D59B6DA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2ABF167-76A3-4D32-A568-26659A404D4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E2B32D96-B82D-4FFF-B525-255E354C89A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6185F3F9-1E67-4917-B19C-1F1EF4CE85D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B69CD179-BF99-46E5-A1F1-47529B0F564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50E2BC3-5247-4362-8DCB-838901B991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0A66F051-6E62-4DA5-BF34-DE6378C8E33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6144D643-0687-49B8-8F2C-1468FBE1CDD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4C986F9C-3757-4BD9-BAC0-20DB1290ACF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68775E1B-6EDD-4F6A-92B5-37F7A55DD2B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986080C0-1268-4F80-ADD2-9CF671F7EEE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68F18D83-701F-49B0-9003-D97A83E7558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6D931D21-FFD2-40DB-A35D-C783CE0A960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58FB44A0-E8C5-4D0E-8F0D-7380CB85625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30177B80-502C-4F14-A7D8-34A03A017BD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72D0AE63-FFB1-4400-8281-09507133AE7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FC02A416-8623-45A2-BA62-AA225D7598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FA36782E-FFEA-43E8-B08D-DF18E3B714B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C3A93E47-B7DA-4201-9F96-B03BF395B3B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F9016CD-3BCC-4FE2-8D97-D98DE865B82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1017D623-5CD1-4383-919C-0E89E978D7A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350559F0-36A4-4975-973F-98732160A95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C49BEA3E-0DDE-44E4-BF98-C08DF60D660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5CC6F87E-A755-422C-BDD7-7C3C5191204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C410BA99-037E-4526-8841-FB12F008866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9F9178E1-1947-4014-815B-17C10279BB3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43BC725D-A5E5-4E18-A5A2-8D160FDC01F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CF695A19-9ACA-4783-BEF1-9EEAC2CF6A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896AEAC0-3E57-476C-B243-1FAA381F713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C51CDB3D-A731-4165-B55F-6C3471896E9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7B52638D-3C97-4C8C-8059-57C539FECC0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E6D3AB2-BF44-4870-858D-AB6DFD7B00A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4834A6CE-65AA-4202-B9FE-B356FA4C5E8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500AF5FF-1857-445C-9F7E-C0FE5A65268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80863A84-E609-431D-8FE1-6D741D6828B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0385ECC4-218C-4DAE-BE24-C4CDA6D22E7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4F2F8A7A-9F85-441D-AEA0-CE18FF6C3B0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0EE799CB-42F7-477D-8376-5C530745BE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3D5B5717-09AA-40CA-81B6-F146F790639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0B37A5F0-083E-47F2-A058-3DB2731E634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1A2DE8E2-EE85-4374-A2D6-E0C209C6509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57B342F4-6BF8-4353-9A14-87E5E08E803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84116AB6-8541-4D08-93E5-B41B1DA95E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EC33831B-88B5-445C-9655-CF391C46D5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3BF7F5-B473-495A-BA37-3990922065C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FEC7079D-BE87-40EA-83DC-F291B73723B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853D74C6-4722-4FFE-A284-5FBBFED6899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48A6FAD4-26A5-4023-A4B0-B4E53360BA4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7F8819FE-B142-4D23-AE25-54CBDF4E6E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369CAC02-DD1E-4960-954E-11B56482EB1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2B2A85A0-50DD-44B9-86CC-3A303997822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92D8C8F9-545A-4A5E-BC72-F6F7C8E2E4E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D14C5229-2B3B-4FBF-BFDA-0DE5FDF4B65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E157F148-3EBB-4E3B-AFEA-B1959FE4551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19158647-E59F-4C5D-84BA-AB4D0A0AA65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234BE734-4FED-40B9-84BF-55487891BCF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791A57E9-5157-4E6D-AC9D-46521E3EE81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6524AB6D-0F5B-4B8B-AD9B-EA5CE25F3BC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01A7106-04EB-4711-8A47-072501626E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FDDD3DB7-49C7-42ED-BEC1-1C63BE8173F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B5CC4402-A3E8-4D67-A001-CB64A973BE2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96069CD2-44C3-4369-9FB4-DCCEA72088B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5FFBE2BF-651C-4E03-82AF-EAFF2D213A8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E45C63C9-0ED4-4448-9865-0B0A3285297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334249C5-C689-41C3-8189-31742128C9C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85EF2447-8B64-4B74-BE8A-A5B9B26682C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79CA26E8-5C20-40B5-9587-B373A4851B4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9FA2D5A-3213-42B2-A5DB-DA7146B3139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1359C864-65CB-4510-8C7D-249948D7C4A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142BA623-06CB-4B91-8702-CB04D04738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707F7D57-AACB-40B2-B349-9973F1040CD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41BF1F0B-E8B1-49DE-ABF2-3EA6456B8F2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3593FC-ADD8-46A1-959A-546F07F3112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80994AE7-DEAA-42F7-B766-B00FFAA5E69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E2E43885-C484-4200-AD28-D2ACB15BBD9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33014546-9BD8-42A5-99CA-7D0B36966C9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C736F51F-14D0-4B0C-A8E3-B75E0A6C8E3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1F9CC01F-444E-4F1B-AB86-4A348246892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8EB9B55D-B4C8-4E99-8750-C8CA26384BD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49DE0629-8ABD-4B82-A3AB-800FA1F5D36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C95645BA-99DA-4264-8A32-42E8CD8BDC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92AE31E6-7F18-4CDF-8BFF-56796B41812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D57BA622-ACE1-44FD-916E-893ABC4C736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7469760C-FF83-491B-A911-FA72E9D26F2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49FB10AC-832B-4C50-AA5B-75FA17CC3BF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FD5CDAF-AEF0-49D3-A628-9477F88EB45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B2FB51AE-36FF-4810-8737-61EFB3E7972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361DFCAA-336F-4DB0-A990-939DA07AE96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8D275A4F-FA70-4095-800F-4FE8F7DF721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8D92B6D5-E8CD-4313-9F6A-5890D9EC941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6E532C67-1946-4CE9-8231-72D59C49124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71D0DC53-4DD1-4BB6-9865-7109798CBC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CB0C57B-04AA-4B2C-B94E-61D10C13C8B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11496B7A-40F5-4E55-964B-5C3DBB152ED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065BFFC8-4E5A-4150-96B7-7D4E6236A6F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4F2EFAF8-155C-4F89-92C0-E7D82EA230E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41139AFE-F114-4268-9EA3-1B5FD7C0644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00F2DA3D-F2CD-4B5F-9FA9-09D7D38C158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6B42BF2-CFE8-463E-8CE9-E71E8ACF5D2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616E2528-D8DF-4D96-95B6-357CE2C45FD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180E1560-8A6C-4E47-A95A-3D628145DD3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20134CB8-8A92-4B7A-9D75-91D506F25B9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F6EBA7AF-06BC-45E6-A363-7695A0B43D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A6065CAB-3C30-4355-99C8-807E848560A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12262E3D-9BCE-4C12-A002-24E83254080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5F3F0F2-24C4-4803-8E3F-AD26C575037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AD95406-36CB-4723-B01B-F7F6D034C76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9F619242-ADA0-4763-B9CC-2EA03C3643B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87D19651-A517-4314-8DB3-3F303414F20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1CBEC554-3CE6-4A93-920B-952F9BE78E1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683FF712-4F76-4AB7-95AC-87048E835C5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CA245FC-48EF-41D7-B3D7-98FA589BD04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89689701-2D27-4B5F-B5F3-B4D5BACB1AD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EDAC3BCB-5359-4AF3-82F2-FB84BE19EB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F6A9-E26B-455C-84EF-3B46C9252D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130E4-29F8-4BA0-866E-4FB120E210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F6234-70EE-49B5-9195-E7B60E57CE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DFBC9-8DB7-4196-B66B-74E3E8EE60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14E56-DCF9-4B8D-A507-E20D847069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912A2-4D2E-422A-A751-726959D1A21B}"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4585D-F7E1-42BE-9D54-6E27EAA22F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0D468-C0A6-45A9-AA4B-92C81E254C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50128-9249-40B1-955E-FB8896FF36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D38D2-2C68-4F61-A31F-E9DCDF1C9D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8276E-C89D-406A-B9FB-84B63822C9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165400"/>
            <a:ext cx="769608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53e27"/>
                </a:solidFill>
                <a:latin typeface="Century Gothic"/>
              </a:rPr>
              <a:t>Using the Publishers’ Criteria for ELA/Literacy to Better Understand the Standards</a:t>
            </a:r>
            <a:endParaRPr b="1" lang="en-US" sz="3600" spc="-1" strike="noStrike">
              <a:solidFill>
                <a:srgbClr val="17375e"/>
              </a:solidFill>
              <a:latin typeface="Century Gothic"/>
            </a:endParaRPr>
          </a:p>
        </p:txBody>
      </p:sp>
      <p:sp>
        <p:nvSpPr>
          <p:cNvPr id="521"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522"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46"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p:txBody>
      </p:sp>
      <p:sp>
        <p:nvSpPr>
          <p:cNvPr id="54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AA1B3-FCEB-40C3-A654-C49D527C93B9}"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pic>
        <p:nvPicPr>
          <p:cNvPr id="548" name="Picture 2" descr=""/>
          <p:cNvPicPr/>
          <p:nvPr/>
        </p:nvPicPr>
        <p:blipFill>
          <a:blip r:embed="rId1"/>
          <a:stretch/>
        </p:blipFill>
        <p:spPr>
          <a:xfrm>
            <a:off x="457200" y="2509920"/>
            <a:ext cx="8201160" cy="39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50"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6-12, ELA programs include substantially more literary nonfiction.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quality of the texts is high.</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texts and text types named in the standards are included.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anchor texts are selected for especially careful reading.</a:t>
            </a:r>
            <a:endParaRPr b="0" lang="en-US" sz="2400" spc="-1" strike="noStrike">
              <a:solidFill>
                <a:srgbClr val="262626"/>
              </a:solidFill>
              <a:latin typeface="Calibri"/>
            </a:endParaRPr>
          </a:p>
        </p:txBody>
      </p:sp>
      <p:sp>
        <p:nvSpPr>
          <p:cNvPr id="55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73381-6050-4DCF-BA6C-C8779E3AB16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5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do the current reading selection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in our instructional setting align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to the expectations of the Common Core?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o is engaged in conversations about text selection in our district?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are content area teachers engaged?</a:t>
            </a:r>
            <a:endParaRPr b="0" lang="en-US" sz="3200" spc="-1" strike="noStrike">
              <a:solidFill>
                <a:srgbClr val="262626"/>
              </a:solidFill>
              <a:latin typeface="Calibri"/>
            </a:endParaRPr>
          </a:p>
        </p:txBody>
      </p:sp>
      <p:sp>
        <p:nvSpPr>
          <p:cNvPr id="55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2BD3C-2FC2-4289-9A8F-A4D64817AF29}"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56" name=""/>
          <p:cNvSpPr txBox="1"/>
          <p:nvPr/>
        </p:nvSpPr>
        <p:spPr>
          <a:xfrm>
            <a:off x="456840" y="1142640"/>
            <a:ext cx="838188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High-Quality Text-Dependent Questions and Task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 significant portion of the tasks and questions are text-dependent.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igh-quality sequences of text-dependent questions elicit sustained attention to the specifics of the text and their impac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the use of textual evi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structional design cultivates student interest and engagement in reading rich texts carefully.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rovide opportunities to build knowledge through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attend to analyzing the arguments and information central to informational text.</a:t>
            </a:r>
            <a:endParaRPr b="0" lang="en-US" sz="2400" spc="-1" strike="noStrike">
              <a:solidFill>
                <a:srgbClr val="262626"/>
              </a:solidFill>
              <a:latin typeface="Calibri"/>
            </a:endParaRPr>
          </a:p>
        </p:txBody>
      </p:sp>
      <p:sp>
        <p:nvSpPr>
          <p:cNvPr id="55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D7EF6-604D-4BAB-AF07-E1AF3480E678}"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55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C17D2-77E0-4663-92DD-702275EBAE2E}" type="slidenum">
              <a:rPr b="0" lang="en-US" sz="1400" spc="-1" strike="noStrike">
                <a:solidFill>
                  <a:srgbClr val="ffffff"/>
                </a:solidFill>
                <a:latin typeface="Arial"/>
                <a:ea typeface="Arial"/>
              </a:rPr>
              <a:t>&lt;number&gt;</a:t>
            </a:fld>
            <a:endParaRPr b="0" lang="en-US" sz="1400" spc="-1" strike="noStrike">
              <a:solidFill>
                <a:srgbClr val="000000"/>
              </a:solidFill>
              <a:latin typeface="Calibri"/>
            </a:endParaRPr>
          </a:p>
        </p:txBody>
      </p:sp>
      <p:sp>
        <p:nvSpPr>
          <p:cNvPr id="560"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561"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562"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Calibri"/>
            </a:endParaRPr>
          </a:p>
        </p:txBody>
      </p:sp>
      <p:sp>
        <p:nvSpPr>
          <p:cNvPr id="563"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Calibri"/>
            </a:endParaRPr>
          </a:p>
        </p:txBody>
      </p:sp>
      <p:grpSp>
        <p:nvGrpSpPr>
          <p:cNvPr id="564" name="Group 2"/>
          <p:cNvGrpSpPr/>
          <p:nvPr/>
        </p:nvGrpSpPr>
        <p:grpSpPr>
          <a:xfrm>
            <a:off x="4538520" y="1349280"/>
            <a:ext cx="549360" cy="5029560"/>
            <a:chOff x="4538520" y="1349280"/>
            <a:chExt cx="549360" cy="5029560"/>
          </a:xfrm>
        </p:grpSpPr>
        <p:cxnSp>
          <p:nvCxnSpPr>
            <p:cNvPr id="565" name="Shape 138"/>
            <p:cNvCxnSpPr/>
            <p:nvPr/>
          </p:nvCxnSpPr>
          <p:spPr>
            <a:xfrm flipH="1">
              <a:off x="4784040" y="1349280"/>
              <a:ext cx="1080" cy="5029920"/>
            </a:xfrm>
            <a:prstGeom prst="straightConnector1">
              <a:avLst/>
            </a:prstGeom>
            <a:ln w="19080">
              <a:solidFill>
                <a:srgbClr val="0e291a"/>
              </a:solidFill>
              <a:miter/>
            </a:ln>
          </p:spPr>
        </p:cxnSp>
        <p:sp>
          <p:nvSpPr>
            <p:cNvPr id="566"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9"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71" name=""/>
          <p:cNvSpPr txBox="1"/>
          <p:nvPr/>
        </p:nvSpPr>
        <p:spPr>
          <a:xfrm>
            <a:off x="457200" y="1142640"/>
            <a:ext cx="822960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Cultivating Students’ Ability to Read Complex Texts Independentl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caffolds enable all student to experience rather than avoid the complexity of a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strategies support comprehension of specific texts, focus on building knowledg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 for whole-group, small-group, and individual instruction cultivates responsibility and indepen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careful comprehension of the text firs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the text the focus of instruction.</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offer assessment opportunities that genuinely measure progress.</a:t>
            </a:r>
            <a:endParaRPr b="0" lang="en-US" sz="2400" spc="-1" strike="noStrike">
              <a:solidFill>
                <a:srgbClr val="262626"/>
              </a:solidFill>
              <a:latin typeface="Calibri"/>
            </a:endParaRPr>
          </a:p>
        </p:txBody>
      </p:sp>
      <p:sp>
        <p:nvSpPr>
          <p:cNvPr id="57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3E2D7-12E6-4667-A2DC-B2262C48C138}"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Academic Vocabulary</a:t>
            </a:r>
            <a:endParaRPr b="1" lang="en-US" sz="2800" spc="-1" strike="noStrike">
              <a:solidFill>
                <a:srgbClr val="17375e"/>
              </a:solidFill>
              <a:latin typeface="Century Gothic"/>
            </a:endParaRPr>
          </a:p>
        </p:txBody>
      </p:sp>
      <p:sp>
        <p:nvSpPr>
          <p:cNvPr id="574"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ier 2” words</a:t>
            </a:r>
            <a:br>
              <a:rPr sz="2400"/>
            </a:br>
            <a:r>
              <a:rPr b="0" lang="en-US" sz="2400" spc="-1" strike="noStrike">
                <a:solidFill>
                  <a:srgbClr val="262626"/>
                </a:solidFill>
                <a:latin typeface="Calibri"/>
              </a:rPr>
              <a:t> </a:t>
            </a:r>
            <a:endParaRPr b="0" lang="en-US" sz="2400" spc="-1" strike="noStrike">
              <a:solidFill>
                <a:srgbClr val="262626"/>
              </a:solidFill>
              <a:latin typeface="Calibri"/>
            </a:endParaRPr>
          </a:p>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esent across content areas (in contrast to domain-specific words) </a:t>
            </a:r>
            <a:endParaRPr b="0" lang="en-US" sz="2400" spc="-1" strike="noStrike">
              <a:solidFill>
                <a:srgbClr val="262626"/>
              </a:solidFill>
              <a:latin typeface="Calibri"/>
            </a:endParaRPr>
          </a:p>
        </p:txBody>
      </p:sp>
      <p:sp>
        <p:nvSpPr>
          <p:cNvPr id="57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AA3FB-03A6-4A6F-A048-BDF301F0083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77" name=""/>
          <p:cNvSpPr txBox="1"/>
          <p:nvPr/>
        </p:nvSpPr>
        <p:spPr>
          <a:xfrm>
            <a:off x="457200" y="1295280"/>
            <a:ext cx="8229600" cy="5105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Academic Vocabular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What is our current practice of vocabulary instruction?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 </a:t>
            </a:r>
            <a:r>
              <a:rPr b="0" i="1" lang="en-US" sz="2800" spc="-1" strike="noStrike">
                <a:solidFill>
                  <a:srgbClr val="262626"/>
                </a:solidFill>
                <a:latin typeface="Calibri"/>
              </a:rPr>
              <a:t>Is it aligned to the requirements of the Common Core?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college and career readiness?</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access to complex text?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How are we supporting English Language Learners with vocabulary acquisition through complex text?    </a:t>
            </a:r>
            <a:endParaRPr b="0" lang="en-US" sz="2800" spc="-1" strike="noStrike">
              <a:solidFill>
                <a:srgbClr val="262626"/>
              </a:solidFill>
              <a:latin typeface="Calibri"/>
            </a:endParaRPr>
          </a:p>
        </p:txBody>
      </p:sp>
      <p:sp>
        <p:nvSpPr>
          <p:cNvPr id="57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97B8-913E-4399-932B-01850AAD5BAE}"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0" name=""/>
          <p:cNvSpPr txBox="1"/>
          <p:nvPr/>
        </p:nvSpPr>
        <p:spPr>
          <a:xfrm>
            <a:off x="457200" y="1294920"/>
            <a:ext cx="8229600" cy="4953240"/>
          </a:xfrm>
          <a:prstGeom prst="rect">
            <a:avLst/>
          </a:prstGeom>
          <a:noFill/>
          <a:ln w="0">
            <a:noFill/>
          </a:ln>
        </p:spPr>
        <p:txBody>
          <a:bodyPr anchor="t">
            <a:normAutofit/>
          </a:bodyPr>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portray writing to sources as key task.</a:t>
            </a:r>
            <a:endParaRPr b="0" lang="en-US" sz="2200" spc="-1" strike="noStrike">
              <a:solidFill>
                <a:srgbClr val="262626"/>
              </a:solidFill>
              <a:latin typeface="Calibri"/>
            </a:endParaRPr>
          </a:p>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focus on forming arguments as well as writing to inform.</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elementary school </a:t>
            </a:r>
            <a:br>
              <a:rPr sz="2200"/>
            </a:br>
            <a:r>
              <a:rPr b="0" lang="en-US" sz="2200" spc="-1" strike="noStrike">
                <a:solidFill>
                  <a:srgbClr val="262626"/>
                </a:solidFill>
                <a:latin typeface="Calibri"/>
              </a:rPr>
              <a:t>	</a:t>
            </a:r>
            <a:r>
              <a:rPr b="0" lang="en-US" sz="2200" spc="-1" strike="noStrike">
                <a:solidFill>
                  <a:srgbClr val="262626"/>
                </a:solidFill>
                <a:latin typeface="Calibri"/>
              </a:rPr>
              <a:t>3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5%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middle school</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high school</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2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58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A8888-1FAB-4377-8559-59A217BFCE72}"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3"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ortray writing to sources as key task.</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focus on forming arguments as well as informative writing.</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it clear that student writing should be responsive to the needs of the audience and the particulars of the text in question.</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udents are given extensive practice with short, focused research projects.  </a:t>
            </a:r>
            <a:endParaRPr b="0" lang="en-US" sz="2400" spc="-1" strike="noStrike">
              <a:solidFill>
                <a:srgbClr val="262626"/>
              </a:solidFill>
              <a:latin typeface="Calibri"/>
            </a:endParaRPr>
          </a:p>
        </p:txBody>
      </p:sp>
      <p:sp>
        <p:nvSpPr>
          <p:cNvPr id="58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1B934-8D60-40F4-873C-6FA077FD4FAB}"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cebreaker Question</a:t>
            </a:r>
            <a:endParaRPr b="1" lang="en-US" sz="2800" spc="-1" strike="noStrike">
              <a:solidFill>
                <a:srgbClr val="17375e"/>
              </a:solidFill>
              <a:latin typeface="Century Gothic"/>
            </a:endParaRPr>
          </a:p>
        </p:txBody>
      </p:sp>
      <p:sp>
        <p:nvSpPr>
          <p:cNvPr id="524" name=""/>
          <p:cNvSpPr txBox="1"/>
          <p:nvPr/>
        </p:nvSpPr>
        <p:spPr>
          <a:xfrm>
            <a:off x="457200" y="1294920"/>
            <a:ext cx="8229600" cy="48006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is the intention of the Publishers’ Criteria?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o is it intended for?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ow can it support these different audiences? </a:t>
            </a:r>
            <a:endParaRPr b="0" lang="en-US" sz="3200" spc="-1" strike="noStrike">
              <a:solidFill>
                <a:srgbClr val="262626"/>
              </a:solidFill>
              <a:latin typeface="Calibri"/>
            </a:endParaRPr>
          </a:p>
        </p:txBody>
      </p:sp>
      <p:sp>
        <p:nvSpPr>
          <p:cNvPr id="52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D76BB-F03B-4F91-A353-4B6ECAAD5A1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Putting it all together</a:t>
            </a:r>
            <a:endParaRPr b="1" lang="en-US" sz="2800" spc="-1" strike="noStrike">
              <a:solidFill>
                <a:srgbClr val="17375e"/>
              </a:solidFill>
              <a:latin typeface="Century Gothic"/>
            </a:endParaRPr>
          </a:p>
        </p:txBody>
      </p:sp>
      <p:sp>
        <p:nvSpPr>
          <p:cNvPr id="586" name=""/>
          <p:cNvSpPr txBox="1"/>
          <p:nvPr/>
        </p:nvSpPr>
        <p:spPr>
          <a:xfrm>
            <a:off x="533520" y="1294920"/>
            <a:ext cx="8153280" cy="4800600"/>
          </a:xfrm>
          <a:prstGeom prst="rect">
            <a:avLst/>
          </a:prstGeom>
          <a:noFill/>
          <a:ln w="0">
            <a:noFill/>
          </a:ln>
        </p:spPr>
        <p:txBody>
          <a:bodyPr anchor="t">
            <a:normAutofit/>
          </a:bodyPr>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four strands of ELA– reading, writing, speaking and listening– are </a:t>
            </a:r>
            <a:r>
              <a:rPr b="0" i="1" lang="en-US" sz="2400" spc="-1" strike="noStrike">
                <a:solidFill>
                  <a:srgbClr val="262626"/>
                </a:solidFill>
                <a:latin typeface="Calibri"/>
              </a:rPr>
              <a:t>meant </a:t>
            </a:r>
            <a:r>
              <a:rPr b="0" lang="en-US" sz="2400" spc="-1" strike="noStrike">
                <a:solidFill>
                  <a:srgbClr val="262626"/>
                </a:solidFill>
                <a:latin typeface="Calibri"/>
              </a:rPr>
              <a:t>to be woven together. This is as true in instructional materials as in curriculum mapping.</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l three shifts are meant to be in play at once.</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is no either/or here: good materials need all of this.</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wary of materials and approaches that seek to segregate the standard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entury Gothic"/>
              </a:rPr>
              <a:t>What’s In and What’s Out?</a:t>
            </a:r>
            <a:endParaRPr b="1" lang="en-US" sz="2800" spc="-1" strike="noStrike">
              <a:solidFill>
                <a:srgbClr val="17375e"/>
              </a:solidFill>
              <a:latin typeface="Century Gothic"/>
            </a:endParaRPr>
          </a:p>
        </p:txBody>
      </p:sp>
      <p:sp>
        <p:nvSpPr>
          <p:cNvPr id="588" name="PlaceHolder 2"/>
          <p:cNvSpPr>
            <a:spLocks noGrp="1"/>
          </p:cNvSpPr>
          <p:nvPr>
            <p:ph/>
          </p:nvPr>
        </p:nvSpPr>
        <p:spPr>
          <a:xfrm>
            <a:off x="228600" y="1066320"/>
            <a:ext cx="42688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IN</a:t>
            </a:r>
            <a:r>
              <a:rPr b="1" lang="en-US" sz="2400" spc="-1" strike="noStrike">
                <a:solidFill>
                  <a:srgbClr val="262626"/>
                </a:solidFill>
                <a:latin typeface="Calibri"/>
              </a:rPr>
              <a:t>	</a:t>
            </a:r>
            <a:endParaRPr b="0" lang="en-US" sz="2400" spc="-1" strike="noStrike">
              <a:solidFill>
                <a:srgbClr val="262626"/>
              </a:solidFill>
              <a:latin typeface="Calibri"/>
            </a:endParaRPr>
          </a:p>
        </p:txBody>
      </p:sp>
      <p:sp>
        <p:nvSpPr>
          <p:cNvPr id="589" name="PlaceHolder 3"/>
          <p:cNvSpPr>
            <a:spLocks noGrp="1"/>
          </p:cNvSpPr>
          <p:nvPr>
            <p:ph/>
          </p:nvPr>
        </p:nvSpPr>
        <p:spPr>
          <a:xfrm>
            <a:off x="4647960" y="10663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OUT</a:t>
            </a:r>
            <a:endParaRPr b="0" lang="en-US" sz="2400" spc="-1" strike="noStrike">
              <a:solidFill>
                <a:srgbClr val="262626"/>
              </a:solidFill>
              <a:latin typeface="Calibri"/>
            </a:endParaRPr>
          </a:p>
        </p:txBody>
      </p:sp>
      <p:sp>
        <p:nvSpPr>
          <p:cNvPr id="590" name=""/>
          <p:cNvSpPr txBox="1"/>
          <p:nvPr/>
        </p:nvSpPr>
        <p:spPr>
          <a:xfrm>
            <a:off x="4644720" y="1676520"/>
            <a:ext cx="404172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Leveled texts (onl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any ‘ol text</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Solely literature</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llection of unrelated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to-self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writing without sourc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literary terminolog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p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end goal)</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peripheral and detach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591" name=""/>
          <p:cNvSpPr txBox="1"/>
          <p:nvPr/>
        </p:nvSpPr>
        <p:spPr>
          <a:xfrm>
            <a:off x="228600" y="1676520"/>
            <a:ext cx="426888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Daily encounters w/complex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Texts worthy of close attention</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ance of literary and info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herent sequences of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dependent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evidence-based analys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academic vocabular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reading &amp; 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mea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a:t>
            </a:r>
            <a:br>
              <a:rPr sz="2000"/>
            </a:br>
            <a:r>
              <a:rPr b="1" lang="en-US" sz="2000" spc="-1" strike="noStrike">
                <a:solidFill>
                  <a:srgbClr val="262626"/>
                </a:solidFill>
                <a:latin typeface="Calibri"/>
              </a:rPr>
              <a:t>(central and integrat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04560" y="1371600"/>
            <a:ext cx="6777000" cy="1125360"/>
          </a:xfrm>
          <a:prstGeom prst="rect">
            <a:avLst/>
          </a:prstGeom>
          <a:noFill/>
          <a:ln w="0">
            <a:noFill/>
          </a:ln>
        </p:spPr>
        <p:txBody>
          <a:bodyPr anchor="t">
            <a:normAutofit/>
          </a:bodyPr>
          <a:p>
            <a:pPr marL="684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It all boils down to. . .</a:t>
            </a:r>
            <a:endParaRPr b="0" lang="en-US" sz="3600" spc="-1" strike="noStrike">
              <a:solidFill>
                <a:srgbClr val="262626"/>
              </a:solidFill>
              <a:latin typeface="Calibri"/>
            </a:endParaRPr>
          </a:p>
        </p:txBody>
      </p:sp>
      <p:sp>
        <p:nvSpPr>
          <p:cNvPr id="593" name="Content Placeholder 2"/>
          <p:cNvSpPr/>
          <p:nvPr/>
        </p:nvSpPr>
        <p:spPr>
          <a:xfrm>
            <a:off x="1042920" y="2362320"/>
            <a:ext cx="6777000" cy="3027240"/>
          </a:xfrm>
          <a:prstGeom prst="rect">
            <a:avLst/>
          </a:prstGeom>
          <a:noFill/>
          <a:ln w="0">
            <a:noFill/>
          </a:ln>
        </p:spPr>
        <p:style>
          <a:lnRef idx="0"/>
          <a:fillRef idx="0"/>
          <a:effectRef idx="0"/>
          <a:fontRef idx="minor"/>
        </p:style>
        <p:txBody>
          <a:bodyPr lIns="90000" rIns="90000" tIns="46800" bIns="46800" anchor="t">
            <a:normAutofit/>
          </a:bodyPr>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Texts Worth Reading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and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Questions Worth Answer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Goals for this Session</a:t>
            </a:r>
            <a:endParaRPr b="1" lang="en-US" sz="2800" spc="-1" strike="noStrike">
              <a:solidFill>
                <a:srgbClr val="17375e"/>
              </a:solidFill>
              <a:latin typeface="Century Gothic"/>
            </a:endParaRPr>
          </a:p>
        </p:txBody>
      </p:sp>
      <p:sp>
        <p:nvSpPr>
          <p:cNvPr id="527"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will closely examine the Publishers’ Criteria in an effort to:</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in a deeper understanding of the Common Core State Standards and the shifts they require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Standards’ implications for instructional material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udge materials for alignment and reflect on the appropriate use of existing classroom resources and strategie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00DFA-F070-4B2D-9EE2-FE93BE786619}"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533520" y="152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LA/Literacy:  3 shifts</a:t>
            </a:r>
            <a:endParaRPr b="1" lang="en-US" sz="2800" spc="-1" strike="noStrike">
              <a:solidFill>
                <a:srgbClr val="17375e"/>
              </a:solidFill>
              <a:latin typeface="Century Gothic"/>
            </a:endParaRPr>
          </a:p>
        </p:txBody>
      </p:sp>
      <p:sp>
        <p:nvSpPr>
          <p:cNvPr id="530" name=""/>
          <p:cNvSpPr txBox="1"/>
          <p:nvPr/>
        </p:nvSpPr>
        <p:spPr>
          <a:xfrm>
            <a:off x="609120" y="1599840"/>
            <a:ext cx="8077320" cy="5257800"/>
          </a:xfrm>
          <a:prstGeom prst="rect">
            <a:avLst/>
          </a:prstGeom>
          <a:noFill/>
          <a:ln w="0">
            <a:noFill/>
          </a:ln>
        </p:spPr>
        <p:txBody>
          <a:bodyPr anchor="t">
            <a:normAutofit/>
          </a:bodyPr>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gular practice with </a:t>
            </a:r>
            <a:r>
              <a:rPr b="1" lang="en-US" sz="2400" spc="-1" strike="noStrike">
                <a:solidFill>
                  <a:srgbClr val="262626"/>
                </a:solidFill>
                <a:latin typeface="Calibri"/>
              </a:rPr>
              <a:t>complex text </a:t>
            </a:r>
            <a:r>
              <a:rPr b="0" lang="en-US" sz="2400" spc="-1" strike="noStrike">
                <a:solidFill>
                  <a:srgbClr val="262626"/>
                </a:solidFill>
                <a:latin typeface="Calibri"/>
              </a:rPr>
              <a:t>and its </a:t>
            </a:r>
            <a:r>
              <a:rPr b="1" lang="en-US" sz="2400" spc="-1" strike="noStrike">
                <a:solidFill>
                  <a:srgbClr val="262626"/>
                </a:solidFill>
                <a:latin typeface="Calibri"/>
              </a:rPr>
              <a:t>academic language</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writing, and speaking grounded in </a:t>
            </a:r>
            <a:r>
              <a:rPr b="1" lang="en-US" sz="2400" spc="-1" strike="noStrike">
                <a:solidFill>
                  <a:srgbClr val="262626"/>
                </a:solidFill>
                <a:latin typeface="Calibri"/>
              </a:rPr>
              <a:t>evidence from text, </a:t>
            </a:r>
            <a:r>
              <a:rPr b="0" lang="en-US" sz="2400" spc="-1" strike="noStrike">
                <a:solidFill>
                  <a:srgbClr val="262626"/>
                </a:solidFill>
                <a:latin typeface="Calibri"/>
              </a:rPr>
              <a:t>both literary and informational</a:t>
            </a:r>
            <a:br>
              <a:rPr sz="2400"/>
            </a:br>
            <a:r>
              <a:rPr b="1" lang="en-US" sz="2400" spc="-1" strike="noStrike" u="sng">
                <a:solidFill>
                  <a:srgbClr val="262626"/>
                </a:solidFill>
                <a:uFillTx/>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Building knowledge </a:t>
            </a:r>
            <a:r>
              <a:rPr b="0" lang="en-US" sz="2400" spc="-1" strike="noStrike">
                <a:solidFill>
                  <a:srgbClr val="262626"/>
                </a:solidFill>
                <a:latin typeface="Calibri"/>
              </a:rPr>
              <a:t>through </a:t>
            </a:r>
            <a:r>
              <a:rPr b="1" lang="en-US" sz="2400" spc="-1" strike="noStrike">
                <a:solidFill>
                  <a:srgbClr val="262626"/>
                </a:solidFill>
                <a:latin typeface="Calibri"/>
              </a:rPr>
              <a:t>content-rich nonfiction</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Publishers’ Criteria for the Common Core State Standards in English Language Arts and Literacy</a:t>
            </a:r>
            <a:endParaRPr b="1" lang="en-US" sz="2500" spc="-1" strike="noStrike">
              <a:solidFill>
                <a:srgbClr val="17375e"/>
              </a:solidFill>
              <a:latin typeface="Century Gothic"/>
            </a:endParaRPr>
          </a:p>
        </p:txBody>
      </p:sp>
      <p:sp>
        <p:nvSpPr>
          <p:cNvPr id="532" name=""/>
          <p:cNvSpPr txBox="1"/>
          <p:nvPr/>
        </p:nvSpPr>
        <p:spPr>
          <a:xfrm>
            <a:off x="457200" y="1294920"/>
            <a:ext cx="8229600" cy="4800600"/>
          </a:xfrm>
          <a:prstGeom prst="rect">
            <a:avLst/>
          </a:prstGeom>
          <a:noFill/>
          <a:ln w="0">
            <a:noFill/>
          </a:ln>
        </p:spPr>
        <p:txBody>
          <a:bodyPr anchor="t">
            <a:normAutofit/>
          </a:bodyPr>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ed to guide publishers and curriculum developers as they work to ensure alignment with the CCSS. </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s on the most significant elements of the Standards.</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Not intended to dictate classroom practice.</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rised of two documents: grades K-2 and 3-12.</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imed to support the responsibilities of both producers and purchasers of instructional materials. </a:t>
            </a:r>
            <a:endParaRPr b="0" lang="en-US" sz="2400" spc="-1" strike="noStrike">
              <a:solidFill>
                <a:srgbClr val="262626"/>
              </a:solidFill>
              <a:latin typeface="Calibri"/>
            </a:endParaRPr>
          </a:p>
        </p:txBody>
      </p:sp>
      <p:sp>
        <p:nvSpPr>
          <p:cNvPr id="533"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D8B7C-295F-43B4-BC02-E061CB461DF6}"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Document Organization </a:t>
            </a:r>
            <a:endParaRPr b="1" lang="en-US" sz="2800" spc="-1" strike="noStrike">
              <a:solidFill>
                <a:srgbClr val="17375e"/>
              </a:solidFill>
              <a:latin typeface="Century Gothic"/>
            </a:endParaRPr>
          </a:p>
        </p:txBody>
      </p:sp>
      <p:sp>
        <p:nvSpPr>
          <p:cNvPr id="53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 section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Text Selection</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Questions and Tasks</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Academic Vocabulary</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Writing to Sources and Research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6"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BDD24-50D3-4E41-A853-28593A04041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 Key Criteria for Text Selection</a:t>
            </a:r>
            <a:endParaRPr b="1" lang="en-US" sz="2800" spc="-1" strike="noStrike">
              <a:solidFill>
                <a:srgbClr val="17375e"/>
              </a:solidFill>
              <a:latin typeface="Century Gothic"/>
            </a:endParaRPr>
          </a:p>
        </p:txBody>
      </p:sp>
      <p:sp>
        <p:nvSpPr>
          <p:cNvPr id="53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ign with grade by grade complexity requirements outlined in the Standard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ll students access to and support with grade-level complex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shorter, challenging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novels, plays, and other full-length reading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rease regular independent reading </a:t>
            </a:r>
            <a:endParaRPr b="0" lang="en-US" sz="2400" spc="-1" strike="noStrike">
              <a:solidFill>
                <a:srgbClr val="262626"/>
              </a:solidFill>
              <a:latin typeface="Calibri"/>
            </a:endParaRPr>
          </a:p>
          <a:p>
            <a:pPr lvl="1" marL="120024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5F01E-0756-4A57-B18A-FC9803079698}"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533520" y="152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eatures of Complex Text</a:t>
            </a:r>
            <a:endParaRPr b="1" lang="en-US" sz="2800" spc="-1" strike="noStrike">
              <a:solidFill>
                <a:srgbClr val="17375e"/>
              </a:solidFill>
              <a:latin typeface="Century Gothic"/>
            </a:endParaRPr>
          </a:p>
        </p:txBody>
      </p:sp>
      <p:sp>
        <p:nvSpPr>
          <p:cNvPr id="541" name=""/>
          <p:cNvSpPr txBox="1"/>
          <p:nvPr/>
        </p:nvSpPr>
        <p:spPr>
          <a:xfrm>
            <a:off x="609480" y="1143000"/>
            <a:ext cx="8305920" cy="5486400"/>
          </a:xfrm>
          <a:prstGeom prst="rect">
            <a:avLst/>
          </a:prstGeom>
          <a:noFill/>
          <a:ln w="0">
            <a:noFill/>
          </a:ln>
        </p:spPr>
        <p:txBody>
          <a:bodyPr anchor="t">
            <a:normAutofit/>
          </a:bodyPr>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ubtle and/or frequent transition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ultiple and/or subtle themes and purpos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nsity of information</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ess common settings, topics or event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repetition, overlap or similarity in words and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lex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ncommon vocabulary</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words, sentences, or paragraphs that review or pull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things together for the student</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nger paragraph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ny text structure which is less narrative and/or mixes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structur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se of passive voice</a:t>
            </a:r>
            <a:endParaRPr b="0" lang="en-US" sz="2400" spc="-1" strike="noStrike">
              <a:solidFill>
                <a:srgbClr val="262626"/>
              </a:solidFill>
              <a:latin typeface="Calibri"/>
            </a:endParaRPr>
          </a:p>
          <a:p>
            <a:pPr indent="276120">
              <a:lnSpc>
                <a:spcPct val="90000"/>
              </a:lnSpc>
              <a:spcBef>
                <a:spcPts val="24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   </a:t>
            </a:r>
            <a:r>
              <a:rPr b="0" i="1" lang="en-US" sz="3200" spc="-1" strike="noStrike">
                <a:solidFill>
                  <a:srgbClr val="262626"/>
                </a:solidFill>
                <a:latin typeface="Calibri"/>
              </a:rPr>
              <a:t>What practices and materials are currently     in place in our instructional setting to support  </a:t>
            </a:r>
            <a:r>
              <a:rPr b="0" i="1" lang="en-US" sz="3200" spc="-1" strike="noStrike" u="sng">
                <a:solidFill>
                  <a:srgbClr val="262626"/>
                </a:solidFill>
                <a:uFillTx/>
                <a:latin typeface="Calibri"/>
              </a:rPr>
              <a:t>all</a:t>
            </a:r>
            <a:r>
              <a:rPr b="0" i="1" lang="en-US" sz="3200" spc="-1" strike="noStrike">
                <a:solidFill>
                  <a:srgbClr val="262626"/>
                </a:solidFill>
                <a:latin typeface="Calibri"/>
              </a:rPr>
              <a:t> students in accessing appropriately     complex text?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ere do we have need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materials, PD, assessment tools)?</a:t>
            </a:r>
            <a:endParaRPr b="0" lang="en-US" sz="3200" spc="-1" strike="noStrike">
              <a:solidFill>
                <a:srgbClr val="262626"/>
              </a:solidFill>
              <a:latin typeface="Calibri"/>
            </a:endParaRPr>
          </a:p>
        </p:txBody>
      </p:sp>
      <p:sp>
        <p:nvSpPr>
          <p:cNvPr id="5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9F292-BE87-4722-82A3-5072DF24865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2T00:06:53Z</dcterms:created>
  <dc:creator>Sandra</dc:creator>
  <dc:description/>
  <dc:language>en-US</dc:language>
  <cp:lastModifiedBy>Pascale Joseph</cp:lastModifiedBy>
  <cp:lastPrinted>2013-04-08T14:38:34Z</cp:lastPrinted>
  <dcterms:modified xsi:type="dcterms:W3CDTF">2020-01-23T19:21:49Z</dcterms:modified>
  <cp:revision>110</cp:revision>
  <dc:subject/>
  <dc:title>Using the Publishers’ Criteria for ELA/Literacy to better understand the Standards</dc:title>
</cp:coreProperties>
</file>